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29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28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FBA-A15F-4425-8533-E0D7AEA4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845-2C5E-4227-BFB7-DB731630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BC4-AEE3-457A-97F5-A752ED1D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BB0-F16B-4F92-8208-EB058955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276DD-2483-41D3-BF2B-A741DD3A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85B52-5D7E-4FB1-80B1-215A6072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F3157-A7BA-4B49-AC41-486DFF75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40D60-1E00-469A-8D77-5DC8A0D2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81D15-FF6B-4511-9D1B-F9059142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DF947-79BB-4AF3-92AF-3EE6E7A1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AB1D3-ABBD-4ACA-830F-34482F40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3B8-669F-487D-B84A-4CAAB287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14ED1-11E1-43CD-905B-49BFCC68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955A5-3393-45D5-AFD8-8F4D7229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C188D-2C5A-4CEF-937F-AB7E2BE3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BE8AC-AFC0-48C8-9662-B3350664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732A5-3C99-4538-9A2F-4873EDF5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E98E-3AF7-4B30-ABEA-AF66B0B0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C37B-2698-4620-80C8-20A45513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3B5A-9199-419A-9A39-A9321300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F159-7B4F-4B3E-9026-7F091EE5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1A4C-5CF7-4192-9638-98079303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133-D389-436F-96B7-E8AC52D5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5198-E157-4E33-8764-977CD5D5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BF03-6EAC-43A5-83DF-7628942D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2E63-508F-4F07-8A26-D928911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BB61-AFD0-4EF0-A1A8-7AB7589D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A649-94E2-480B-BC55-A4F45942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4AAD-549B-400F-A65E-7C4638AB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A55EF-5A9C-4766-ACEE-87385EDD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27FF60-4E44-4BBF-9151-503C0BC2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6BC9A-C16C-4945-901B-16E7B5BA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923E4-F877-424F-B8AB-8D6D4347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11EA-626D-4521-8F29-33CC53E4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B4961-A36B-4722-98C8-AC460826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8AAB0-0228-48EF-9EC9-AA34AA58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C334A-8D48-4F95-AB32-F240AB87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405A2-E15C-469C-8885-4639993A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5763C-CD22-40AE-BDC7-1CFC01D4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B0681-6E59-4C41-9FAA-472B14B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1EF2B-59E0-4BB3-844B-88117DFF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B0D947-BD92-4E6D-B00A-486EF487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C495A-74DE-4055-AF7C-EFFD47BB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14D-3D1C-4B25-93E8-6B7F473E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B05-27E9-4D71-9B5F-4EA0BE63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746-09C5-4DC8-BFEB-D2961610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F85-198F-4CC7-992F-47284038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D06-7F8C-4697-9E53-B543139D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7BB2-B4DF-4C6F-AB27-70CCD01ECD47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5DF8-2C95-48A1-A357-86C5EB83BAD7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4D44-EB8A-43AD-A093-24293276A153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082B-0724-4C49-ADA4-82250B499052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9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0_663ca_3d149383_XL"/>
          <p:cNvPicPr/>
          <p:nvPr/>
        </p:nvPicPr>
        <p:blipFill>
          <a:blip r:embed="rId1"/>
          <a:stretch/>
        </p:blipFill>
        <p:spPr>
          <a:xfrm>
            <a:off x="1143000" y="171360"/>
            <a:ext cx="68580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3733560"/>
            <a:ext cx="83059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виг воронежцев и Воронежа в Великой Отечественной войне позднее был отмечен высокими правительственными наградами: в 1975 году город Воронеж был награжден орденом Отечественной войны I степени, в 1986 году – Орденом Ленина, в 2008 году Воронежу было присвоено почетное звание РФ «Город воинской слав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3257_1_big"/>
          <p:cNvPicPr/>
          <p:nvPr/>
        </p:nvPicPr>
        <p:blipFill>
          <a:blip r:embed="rId1"/>
          <a:stretch/>
        </p:blipFill>
        <p:spPr>
          <a:xfrm>
            <a:off x="533520" y="152280"/>
            <a:ext cx="4876560" cy="329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image"/>
          <p:cNvPicPr/>
          <p:nvPr/>
        </p:nvPicPr>
        <p:blipFill>
          <a:blip r:embed="rId2"/>
          <a:stretch/>
        </p:blipFill>
        <p:spPr>
          <a:xfrm>
            <a:off x="5105520" y="5437080"/>
            <a:ext cx="2819160" cy="1420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86182098_9_may_70"/>
          <p:cNvPicPr/>
          <p:nvPr/>
        </p:nvPicPr>
        <p:blipFill>
          <a:blip r:embed="rId3"/>
          <a:stretch/>
        </p:blipFill>
        <p:spPr>
          <a:xfrm>
            <a:off x="5761080" y="228600"/>
            <a:ext cx="297000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22 июня 1941 года мирная жизнь нашего народа была прервана. Фашистская Германия, нарушив акт о ненападении, вторглась на территорию Советского Союза. И, чтобы не оказаться в фашистском рабстве, ради спасения Родины народ вступил в схватку с коварным, жестоким и беспощадным враг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238320" cy="14875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4572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х, война, что ж ты сделала, подл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i"/>
          <p:cNvPicPr/>
          <p:nvPr/>
        </p:nvPicPr>
        <p:blipFill>
          <a:blip r:embed="rId2"/>
          <a:stretch/>
        </p:blipFill>
        <p:spPr>
          <a:xfrm>
            <a:off x="2819520" y="1085760"/>
            <a:ext cx="3429000" cy="2874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image"/>
          <p:cNvPicPr/>
          <p:nvPr/>
        </p:nvPicPr>
        <p:blipFill>
          <a:blip r:embed="rId3"/>
          <a:stretch/>
        </p:blipFill>
        <p:spPr>
          <a:xfrm>
            <a:off x="3429000" y="6095880"/>
            <a:ext cx="1905120" cy="959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6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7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8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9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/>
          <p:cNvPicPr/>
          <p:nvPr/>
        </p:nvPicPr>
        <p:blipFill>
          <a:blip r:embed="rId10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3" name="Ах, война.mp3" descr=""/>
          <p:cNvPicPr/>
          <p:nvPr/>
        </p:nvPicPr>
        <p:blipFill>
          <a:blip r:embed="rId11"/>
          <a:stretch/>
        </p:blipFill>
        <p:spPr>
          <a:xfrm>
            <a:off x="7848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050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320004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еликий подвиг совершили воронежцы в годы Великой Отечественной войны. Сотни тысяч наших земляков отважно сражались за свободу родного города и родной страны. Они защищали Москву и Ленинград, участвовали в Сталинградской и Курской битвах, освобождали Варшаву и Прагу, штурмовали Берлин. Около 300 воронежцев за проявленный героизм и мужество присвоено звание Героя Советского Союз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месте со взрослыми в военных действиях принимали участие и совсем юные жители Воронежской области. Многие школьники тайком уходили из дома на фронт, становились связными и разведчиками. Неоценим подвиг юных героев: Кости Феоктистова, Кости Стрелюка, Лили Федодеевой и други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4" descr="i"/>
          <p:cNvPicPr/>
          <p:nvPr/>
        </p:nvPicPr>
        <p:blipFill>
          <a:blip r:embed="rId1"/>
          <a:stretch/>
        </p:blipFill>
        <p:spPr>
          <a:xfrm>
            <a:off x="2514600" y="157320"/>
            <a:ext cx="4495680" cy="2946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image"/>
          <p:cNvPicPr/>
          <p:nvPr/>
        </p:nvPicPr>
        <p:blipFill>
          <a:blip r:embed="rId2"/>
          <a:stretch/>
        </p:blipFill>
        <p:spPr>
          <a:xfrm>
            <a:off x="6477120" y="5181480"/>
            <a:ext cx="2666880" cy="134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месте со всем народом на борьбу с гитлеровцами поднялись юные жители Воронежской области. Они помогали взрослым не только в тылу, но и в прифронтовых районах и на фронт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ни были связными партизанских отрядов, разведчиками регулярных частей Советской Армии, красными орлятами воронежских сел и город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аленькие герои переходили линию фронта, подобно лискинской школьнице Лиле Федодеевой, которая не раз переправлялась на захваченный фашистами берег Дона, собирала сведения и сообщала о них советскому командованию. Многие пионеры уходили тайком из дома и становились сыновьями полк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4" descr="1003635-i_004"/>
          <p:cNvPicPr/>
          <p:nvPr/>
        </p:nvPicPr>
        <p:blipFill>
          <a:blip r:embed="rId1"/>
          <a:stretch/>
        </p:blipFill>
        <p:spPr>
          <a:xfrm>
            <a:off x="685800" y="3886200"/>
            <a:ext cx="2895480" cy="182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0_4482a_1c165a83_XL"/>
          <p:cNvPicPr/>
          <p:nvPr/>
        </p:nvPicPr>
        <p:blipFill>
          <a:blip r:embed="rId2"/>
          <a:stretch/>
        </p:blipFill>
        <p:spPr>
          <a:xfrm>
            <a:off x="6799320" y="3886200"/>
            <a:ext cx="1508040" cy="2209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4e5ca911a99ct"/>
          <p:cNvPicPr/>
          <p:nvPr/>
        </p:nvPicPr>
        <p:blipFill>
          <a:blip r:embed="rId3"/>
          <a:stretch/>
        </p:blipFill>
        <p:spPr>
          <a:xfrm>
            <a:off x="4267080" y="3657600"/>
            <a:ext cx="1774800" cy="264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image"/>
          <p:cNvPicPr/>
          <p:nvPr/>
        </p:nvPicPr>
        <p:blipFill>
          <a:blip r:embed="rId4"/>
          <a:stretch/>
        </p:blipFill>
        <p:spPr>
          <a:xfrm>
            <a:off x="1066680" y="5630760"/>
            <a:ext cx="2438640" cy="1227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3623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том 1942 г. юный разведчик Костя Феоктистов не раз переправлялся через р. Воронеж с левого берега на правый, чтобы раздобыть ценные сведения для советского командования. Однажды он был схвачен фашистами, ранен, едва остался жив, но и на этот раз выполнил боевое задание. Тогда воронежскому школьнику Косте Феоктистову было 16 лет. Сейчас это известный всему миру летчик-космонавт, Герой Советского Сою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Picture 4" descr="i"/>
          <p:cNvPicPr/>
          <p:nvPr/>
        </p:nvPicPr>
        <p:blipFill>
          <a:blip r:embed="rId1"/>
          <a:stretch/>
        </p:blipFill>
        <p:spPr>
          <a:xfrm>
            <a:off x="380880" y="304920"/>
            <a:ext cx="2194200" cy="3047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2684520" y="914400"/>
            <a:ext cx="37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октистов Константин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image"/>
          <p:cNvPicPr/>
          <p:nvPr/>
        </p:nvPicPr>
        <p:blipFill>
          <a:blip r:embed="rId2"/>
          <a:stretch/>
        </p:blipFill>
        <p:spPr>
          <a:xfrm>
            <a:off x="304920" y="5105520"/>
            <a:ext cx="2895480" cy="145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52480" y="297180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стя Стрелюк был учеником воронежской школы № 1 (ныне № 11). На фронт ушел добровольцем. Попал в прославленный партизанский отряд С. А. Ковпака, где стал разведчиком. Немало партизанских походов проделал Костя Стрелюк. Стрелюк будучи в разведке попал на засаду националистов, быстро разгадав замысел противника бросился вперёд увлекая за собой бойцов. Засада противника была уничтожена. В этом бою тов. Стрелюк уничтожил 5 бендеровцев и был ране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гиб юный разведчик смертью героя на Украин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релюк награждён орденом Красного Знамени. Осенью 1943 г. он награждается орденом Отечественной войны I степен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5" descr="f"/>
          <p:cNvPicPr/>
          <p:nvPr/>
        </p:nvPicPr>
        <p:blipFill>
          <a:blip r:embed="rId1"/>
          <a:stretch/>
        </p:blipFill>
        <p:spPr>
          <a:xfrm>
            <a:off x="457200" y="17136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548640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тя Стрелю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image"/>
          <p:cNvPicPr/>
          <p:nvPr/>
        </p:nvPicPr>
        <p:blipFill>
          <a:blip r:embed="rId2"/>
          <a:stretch/>
        </p:blipFill>
        <p:spPr>
          <a:xfrm>
            <a:off x="380880" y="5562720"/>
            <a:ext cx="1752840" cy="88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-360" y="3276360"/>
            <a:ext cx="3809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ключительный героизм проявил в оборонительных боях на Курской дуге воронежец Дмитрий Чеботарев. Наводчик противотанкового орудия, он уничтожил 4 вражеских танка и самоходку. Даже будучи раненым, Дмитрий не покинул поле боя и поджег еще два танка. Погиб Д. Чеботарев 6 июля 1943 г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086240" y="3276720"/>
            <a:ext cx="2057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братской могиле в селе Ольховатка Поныровского района Курской области РФ., где похоронен Д. Ф. Чеботарёв, создан Мемориал героям Северного фаса Курской дуг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230px-Чеботарев_Дмитрий_Федорович_2"/>
          <p:cNvPicPr/>
          <p:nvPr/>
        </p:nvPicPr>
        <p:blipFill>
          <a:blip r:embed="rId1"/>
          <a:stretch/>
        </p:blipFill>
        <p:spPr>
          <a:xfrm>
            <a:off x="380880" y="228600"/>
            <a:ext cx="1986120" cy="30481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3413160" y="6858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Чебот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453px-Памятный_знак_на_месте_последнего_боя_расчета_Чеботарева_Д"/>
          <p:cNvPicPr/>
          <p:nvPr/>
        </p:nvPicPr>
        <p:blipFill>
          <a:blip r:embed="rId2"/>
          <a:stretch/>
        </p:blipFill>
        <p:spPr>
          <a:xfrm>
            <a:off x="4267080" y="2514600"/>
            <a:ext cx="3167280" cy="4191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image"/>
          <p:cNvPicPr/>
          <p:nvPr/>
        </p:nvPicPr>
        <p:blipFill>
          <a:blip r:embed="rId3"/>
          <a:stretch/>
        </p:blipFill>
        <p:spPr>
          <a:xfrm>
            <a:off x="3124080" y="5591160"/>
            <a:ext cx="2514600" cy="126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3520" y="3733560"/>
            <a:ext cx="8610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Женщины, дети и старики заменили ушедших на фронт мужчин. Они работали на заводах и занимались сельским хозяйством, водили и ремонтировали тракторы и комбайны, вручную сажали поля и убирали урожай, лечили раненых и ухаживали за бойцами в госпиталях. Кроме того, во многих районах области пионерами были созданы мастерские по изготовлению различных вещей для фронта. Ребята отправляли нашим солдатам носки, варежки, кисеты, носовые платки, а подарки детей вдохновляли бойцов на новые подвиг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i"/>
          <p:cNvPicPr/>
          <p:nvPr/>
        </p:nvPicPr>
        <p:blipFill>
          <a:blip r:embed="rId1"/>
          <a:stretch/>
        </p:blipFill>
        <p:spPr>
          <a:xfrm>
            <a:off x="533520" y="228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img16"/>
          <p:cNvPicPr/>
          <p:nvPr/>
        </p:nvPicPr>
        <p:blipFill>
          <a:blip r:embed="rId2"/>
          <a:stretch/>
        </p:blipFill>
        <p:spPr>
          <a:xfrm>
            <a:off x="4724280" y="2286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image"/>
          <p:cNvPicPr/>
          <p:nvPr/>
        </p:nvPicPr>
        <p:blipFill>
          <a:blip r:embed="rId3"/>
          <a:stretch/>
        </p:blipFill>
        <p:spPr>
          <a:xfrm>
            <a:off x="3886200" y="5562720"/>
            <a:ext cx="2133720" cy="107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52880" y="3580920"/>
            <a:ext cx="4191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ы не слышали взрывов бомб, сигналов воздушной тревог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когда мы спрашиваем взрослых о войне, мы узнаем, что почти в каждой семье кто – то погиб, пропал без вести, был ране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13" descr="scan0018"/>
          <p:cNvPicPr/>
          <p:nvPr/>
        </p:nvPicPr>
        <p:blipFill>
          <a:blip r:embed="rId1"/>
          <a:stretch/>
        </p:blipFill>
        <p:spPr>
          <a:xfrm>
            <a:off x="304920" y="152280"/>
            <a:ext cx="2712960" cy="3733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scan0013"/>
          <p:cNvPicPr/>
          <p:nvPr/>
        </p:nvPicPr>
        <p:blipFill>
          <a:blip r:embed="rId2"/>
          <a:stretch/>
        </p:blipFill>
        <p:spPr>
          <a:xfrm>
            <a:off x="609480" y="3827520"/>
            <a:ext cx="1667160" cy="257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ав"/>
          <p:cNvPicPr/>
          <p:nvPr/>
        </p:nvPicPr>
        <p:blipFill>
          <a:blip r:embed="rId3"/>
          <a:stretch/>
        </p:blipFill>
        <p:spPr>
          <a:xfrm>
            <a:off x="3200400" y="152280"/>
            <a:ext cx="152100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1 (2)"/>
          <p:cNvPicPr/>
          <p:nvPr/>
        </p:nvPicPr>
        <p:blipFill>
          <a:blip r:embed="rId4"/>
          <a:stretch/>
        </p:blipFill>
        <p:spPr>
          <a:xfrm>
            <a:off x="5410080" y="152280"/>
            <a:ext cx="3733920" cy="20005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8"/>
          <p:cNvSpPr/>
          <p:nvPr/>
        </p:nvSpPr>
        <p:spPr>
          <a:xfrm>
            <a:off x="2438280" y="5368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кол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вел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3124080" y="254916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кол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image"/>
          <p:cNvPicPr/>
          <p:nvPr/>
        </p:nvPicPr>
        <p:blipFill>
          <a:blip r:embed="rId5"/>
          <a:stretch/>
        </p:blipFill>
        <p:spPr>
          <a:xfrm>
            <a:off x="3581280" y="5937120"/>
            <a:ext cx="182880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рединина</cp:lastModifiedBy>
  <dcterms:modified xsi:type="dcterms:W3CDTF">2013-05-06T14:56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